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1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8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9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2BFA0-2059-4B62-86BF-8514F2920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using in history, compare the live/events of xxx with the live/events of another famous person/eve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can you explain the events of x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udents might add/delete information.  Maybe add a chart/diagram/more info. On xxx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BEA8-1B3B-48A5-9821-CE08E2058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4980-65E9-4585-88F5-0FF73DA29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8752-8DC4-41E6-B6C2-EC79DDB6C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C20D-1471-46F6-98FB-78D5A25AE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FF605-AC5F-4C3F-A722-B3E52AAD8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F3A63-8004-40FE-BD5C-2E477FD1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E86D3-28DD-4785-B304-081A31D1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63CB-87DE-4D73-A753-3A53EDE40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107B-3830-4E4B-BBFB-85F80BF3F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28009-9DBC-47BB-B26C-89373599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69C3-C222-4280-8C5F-5C4C9F9B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1421-C5A9-40A7-90FD-C552E53D6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59ED2-B334-4ED7-9891-70A5DD7E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C637F-547F-4D46-A544-340BBB9C1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AF761-450D-4B96-AE84-9DD442AA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D2847-1A02-4C84-A3D7-A41E93288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BA230-17CC-435E-A910-7BF30D396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56C0-3B57-4DFE-97F0-464FB5EB4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355C-C1C2-4096-8EE8-A41E273B4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470C-4537-4188-82D6-AA47092C6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62AD-1035-4EC9-BABA-D99445D9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A3A40-4747-41A9-A269-DC1AC383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8E2-C89F-45E5-8461-A91BF24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B910-DE23-4F98-9BAA-E2E3B7D3E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8E9FE-DB41-4743-86D0-0786D59F8FB4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F42BF-C627-4A47-B605-C873841AFC31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OSMIC.WAV" TargetMode="External"/><Relationship Id="rId3" Type="http://schemas.openxmlformats.org/officeDocument/2006/relationships/slide" Target="slide5.xml"/><Relationship Id="rId4" Type="http://schemas.openxmlformats.org/officeDocument/2006/relationships/slide" Target="slide4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9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6.xml"/><Relationship Id="rId11" Type="http://schemas.openxmlformats.org/officeDocument/2006/relationships/slide" Target="slide7.xml"/><Relationship Id="rId12" Type="http://schemas.openxmlformats.org/officeDocument/2006/relationships/slide" Target="slide8.xml"/><Relationship Id="rId13" Type="http://schemas.openxmlformats.org/officeDocument/2006/relationships/slide" Target="slide9.xml"/><Relationship Id="rId14" Type="http://schemas.openxmlformats.org/officeDocument/2006/relationships/slide" Target="slide11.xml"/><Relationship Id="rId15" Type="http://schemas.openxmlformats.org/officeDocument/2006/relationships/slide" Target="slide12.xml"/><Relationship Id="rId16" Type="http://schemas.openxmlformats.org/officeDocument/2006/relationships/slide" Target="slide13.xml"/><Relationship Id="rId17" Type="http://schemas.openxmlformats.org/officeDocument/2006/relationships/slide" Target="slide14.xml"/><Relationship Id="rId18" Type="http://schemas.openxmlformats.org/officeDocument/2006/relationships/slide" Target="slide15.xml"/><Relationship Id="rId19" Type="http://schemas.openxmlformats.org/officeDocument/2006/relationships/slide" Target="slide16.xml"/><Relationship Id="rId20" Type="http://schemas.openxmlformats.org/officeDocument/2006/relationships/slide" Target="slide16.xml"/><Relationship Id="rId21" Type="http://schemas.openxmlformats.org/officeDocument/2006/relationships/slide" Target="slide17.xml"/><Relationship Id="rId22" Type="http://schemas.openxmlformats.org/officeDocument/2006/relationships/slide" Target="slide19.xml"/><Relationship Id="rId23" Type="http://schemas.openxmlformats.org/officeDocument/2006/relationships/slide" Target="slide20.xml"/><Relationship Id="rId24" Type="http://schemas.openxmlformats.org/officeDocument/2006/relationships/slide" Target="slide21.xml"/><Relationship Id="rId25" Type="http://schemas.openxmlformats.org/officeDocument/2006/relationships/slide" Target="slide22.xml"/><Relationship Id="rId26" Type="http://schemas.openxmlformats.org/officeDocument/2006/relationships/slide" Target="slide23.xml"/><Relationship Id="rId27" Type="http://schemas.openxmlformats.org/officeDocument/2006/relationships/slide" Target="slide24.xml"/><Relationship Id="rId28" Type="http://schemas.openxmlformats.org/officeDocument/2006/relationships/slide" Target="slide26.xml"/><Relationship Id="rId29" Type="http://schemas.openxmlformats.org/officeDocument/2006/relationships/slide" Target="slide27.xml"/><Relationship Id="rId30" Type="http://schemas.openxmlformats.org/officeDocument/2006/relationships/slide" Target="slide28.xml"/><Relationship Id="rId31" Type="http://schemas.openxmlformats.org/officeDocument/2006/relationships/slide" Target="slide29.xml"/><Relationship Id="rId32" Type="http://schemas.openxmlformats.org/officeDocument/2006/relationships/slide" Target="slide30.xml"/><Relationship Id="rId33" Type="http://schemas.openxmlformats.org/officeDocument/2006/relationships/slide" Target="slide31.xml"/><Relationship Id="rId3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4800" y="1734120"/>
            <a:ext cx="1393200" cy="492480"/>
          </a:xfrm>
          <a:custGeom>
            <a:avLst/>
            <a:gdLst>
              <a:gd name="textAreaLeft" fmla="*/ 31680 w 1393200"/>
              <a:gd name="textAreaRight" fmla="*/ 1361520 w 139320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61076" h="21600">
                <a:moveTo>
                  <a:pt x="0" y="0"/>
                </a:moveTo>
                <a:lnTo>
                  <a:pt x="61076" y="0"/>
                </a:lnTo>
                <a:lnTo>
                  <a:pt x="61076" y="21600"/>
                </a:lnTo>
                <a:lnTo>
                  <a:pt x="0" y="21600"/>
                </a:lnTo>
                <a:close/>
              </a:path>
              <a:path fill="lightenLess" w="61076" h="21600">
                <a:moveTo>
                  <a:pt x="0" y="0"/>
                </a:moveTo>
                <a:lnTo>
                  <a:pt x="61076" y="0"/>
                </a:lnTo>
                <a:lnTo>
                  <a:pt x="59676" y="1400"/>
                </a:lnTo>
                <a:lnTo>
                  <a:pt x="1400" y="1400"/>
                </a:lnTo>
                <a:close/>
              </a:path>
              <a:path fill="darken" w="61076" h="21600">
                <a:moveTo>
                  <a:pt x="61076" y="0"/>
                </a:moveTo>
                <a:lnTo>
                  <a:pt x="61076" y="21600"/>
                </a:lnTo>
                <a:lnTo>
                  <a:pt x="59676" y="20200"/>
                </a:lnTo>
                <a:lnTo>
                  <a:pt x="59676" y="1400"/>
                </a:lnTo>
                <a:close/>
              </a:path>
              <a:path fill="darkenLess" w="61076" h="21600">
                <a:moveTo>
                  <a:pt x="610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676" y="20200"/>
                </a:lnTo>
                <a:close/>
              </a:path>
              <a:path fill="lighten" w="610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Know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1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7680" y="388440"/>
            <a:ext cx="7628040" cy="90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Comic Sans MS"/>
              </a:rPr>
              <a:t>Nonfiction Comprehension Challenge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20560" y="1734120"/>
            <a:ext cx="1722240" cy="492480"/>
          </a:xfrm>
          <a:custGeom>
            <a:avLst/>
            <a:gdLst>
              <a:gd name="textAreaLeft" fmla="*/ 31680 w 1722240"/>
              <a:gd name="textAreaRight" fmla="*/ 1690560 w 172224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75497" h="21600">
                <a:moveTo>
                  <a:pt x="0" y="0"/>
                </a:moveTo>
                <a:lnTo>
                  <a:pt x="75497" y="0"/>
                </a:lnTo>
                <a:lnTo>
                  <a:pt x="75497" y="21600"/>
                </a:lnTo>
                <a:lnTo>
                  <a:pt x="0" y="21600"/>
                </a:lnTo>
                <a:close/>
              </a:path>
              <a:path fill="lightenLess" w="75497" h="21600">
                <a:moveTo>
                  <a:pt x="0" y="0"/>
                </a:moveTo>
                <a:lnTo>
                  <a:pt x="75497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7" h="21600">
                <a:moveTo>
                  <a:pt x="75497" y="0"/>
                </a:moveTo>
                <a:lnTo>
                  <a:pt x="75497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7" h="21600">
                <a:moveTo>
                  <a:pt x="75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Generat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24640" y="1608840"/>
            <a:ext cx="1762200" cy="808200"/>
          </a:xfrm>
          <a:custGeom>
            <a:avLst/>
            <a:gdLst>
              <a:gd name="textAreaLeft" fmla="*/ 52200 w 1762200"/>
              <a:gd name="textAreaRight" fmla="*/ 1710000 w 176220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47085" h="21600">
                <a:moveTo>
                  <a:pt x="0" y="0"/>
                </a:moveTo>
                <a:lnTo>
                  <a:pt x="47085" y="0"/>
                </a:lnTo>
                <a:lnTo>
                  <a:pt x="47085" y="21600"/>
                </a:lnTo>
                <a:lnTo>
                  <a:pt x="0" y="21600"/>
                </a:lnTo>
                <a:close/>
              </a:path>
              <a:path fill="lightenLess" w="47085" h="21600">
                <a:moveTo>
                  <a:pt x="0" y="0"/>
                </a:moveTo>
                <a:lnTo>
                  <a:pt x="47085" y="0"/>
                </a:lnTo>
                <a:lnTo>
                  <a:pt x="45685" y="1400"/>
                </a:lnTo>
                <a:lnTo>
                  <a:pt x="1400" y="1400"/>
                </a:lnTo>
                <a:close/>
              </a:path>
              <a:path fill="darken" w="47085" h="21600">
                <a:moveTo>
                  <a:pt x="47085" y="0"/>
                </a:moveTo>
                <a:lnTo>
                  <a:pt x="47085" y="21600"/>
                </a:lnTo>
                <a:lnTo>
                  <a:pt x="45685" y="20200"/>
                </a:lnTo>
                <a:lnTo>
                  <a:pt x="45685" y="1400"/>
                </a:lnTo>
                <a:close/>
              </a:path>
              <a:path fill="darkenLess" w="47085" h="21600">
                <a:moveTo>
                  <a:pt x="470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85" y="20200"/>
                </a:lnTo>
                <a:close/>
              </a:path>
              <a:path fill="lighten" w="470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mic Sans MS"/>
              </a:rPr>
              <a:t>Integrating/ Evaluating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39960" y="1734120"/>
            <a:ext cx="1512000" cy="492480"/>
          </a:xfrm>
          <a:custGeom>
            <a:avLst/>
            <a:gdLst>
              <a:gd name="textAreaLeft" fmla="*/ 31680 w 1512000"/>
              <a:gd name="textAreaRight" fmla="*/ 1480320 w 151200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66283" h="21600">
                <a:moveTo>
                  <a:pt x="0" y="0"/>
                </a:moveTo>
                <a:lnTo>
                  <a:pt x="66283" y="0"/>
                </a:lnTo>
                <a:lnTo>
                  <a:pt x="66283" y="21600"/>
                </a:lnTo>
                <a:lnTo>
                  <a:pt x="0" y="21600"/>
                </a:lnTo>
                <a:close/>
              </a:path>
              <a:path fill="lightenLess" w="66283" h="21600">
                <a:moveTo>
                  <a:pt x="0" y="0"/>
                </a:moveTo>
                <a:lnTo>
                  <a:pt x="66283" y="0"/>
                </a:lnTo>
                <a:lnTo>
                  <a:pt x="64883" y="1400"/>
                </a:lnTo>
                <a:lnTo>
                  <a:pt x="1400" y="1400"/>
                </a:lnTo>
                <a:close/>
              </a:path>
              <a:path fill="darken" w="66283" h="21600">
                <a:moveTo>
                  <a:pt x="66283" y="0"/>
                </a:moveTo>
                <a:lnTo>
                  <a:pt x="66283" y="21600"/>
                </a:lnTo>
                <a:lnTo>
                  <a:pt x="64883" y="20200"/>
                </a:lnTo>
                <a:lnTo>
                  <a:pt x="64883" y="1400"/>
                </a:lnTo>
                <a:close/>
              </a:path>
              <a:path fill="darkenLess" w="66283" h="21600">
                <a:moveTo>
                  <a:pt x="662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883" y="20200"/>
                </a:lnTo>
                <a:close/>
              </a:path>
              <a:path fill="lighten" w="662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Analyz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>
            <a:hlinkClick r:id="rId2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">
            <a:hlinkClick r:id="rId3" action="ppaction://hlinksldjump"/>
          </p:cNvPr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35160" y="1734120"/>
            <a:ext cx="1396080" cy="492480"/>
          </a:xfrm>
          <a:custGeom>
            <a:avLst/>
            <a:gdLst>
              <a:gd name="textAreaLeft" fmla="*/ 31680 w 1396080"/>
              <a:gd name="textAreaRight" fmla="*/ 1364400 w 139608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61203" h="21600">
                <a:moveTo>
                  <a:pt x="0" y="0"/>
                </a:moveTo>
                <a:lnTo>
                  <a:pt x="61203" y="0"/>
                </a:lnTo>
                <a:lnTo>
                  <a:pt x="61203" y="21600"/>
                </a:lnTo>
                <a:lnTo>
                  <a:pt x="0" y="21600"/>
                </a:lnTo>
                <a:close/>
              </a:path>
              <a:path fill="lightenLess" w="61203" h="21600">
                <a:moveTo>
                  <a:pt x="0" y="0"/>
                </a:moveTo>
                <a:lnTo>
                  <a:pt x="61203" y="0"/>
                </a:lnTo>
                <a:lnTo>
                  <a:pt x="59803" y="1400"/>
                </a:lnTo>
                <a:lnTo>
                  <a:pt x="1400" y="1400"/>
                </a:lnTo>
                <a:close/>
              </a:path>
              <a:path fill="darken" w="61203" h="21600">
                <a:moveTo>
                  <a:pt x="61203" y="0"/>
                </a:moveTo>
                <a:lnTo>
                  <a:pt x="61203" y="21600"/>
                </a:lnTo>
                <a:lnTo>
                  <a:pt x="59803" y="20200"/>
                </a:lnTo>
                <a:lnTo>
                  <a:pt x="59803" y="1400"/>
                </a:lnTo>
                <a:close/>
              </a:path>
              <a:path fill="darkenLess" w="61203" h="21600">
                <a:moveTo>
                  <a:pt x="61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803" y="20200"/>
                </a:lnTo>
                <a:close/>
              </a:path>
              <a:path fill="lighten" w="61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Apply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2" name="">
            <a:hlinkClick r:id="rId4" action="ppaction://hlinksldjump"/>
          </p:cNvPr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61880" y="1734120"/>
            <a:ext cx="1698120" cy="492480"/>
          </a:xfrm>
          <a:custGeom>
            <a:avLst/>
            <a:gdLst>
              <a:gd name="textAreaLeft" fmla="*/ 31680 w 1698120"/>
              <a:gd name="textAreaRight" fmla="*/ 1666440 w 1698120"/>
              <a:gd name="textAreaTop" fmla="*/ 31680 h 492480"/>
              <a:gd name="textAreaBottom" fmla="*/ 460800 h 492480"/>
            </a:gdLst>
            <a:ahLst/>
            <a:rect l="textAreaLeft" t="textAreaTop" r="textAreaRight" b="textAreaBottom"/>
            <a:pathLst>
              <a:path w="74440" h="21600">
                <a:moveTo>
                  <a:pt x="0" y="0"/>
                </a:moveTo>
                <a:lnTo>
                  <a:pt x="74440" y="0"/>
                </a:lnTo>
                <a:lnTo>
                  <a:pt x="74440" y="21600"/>
                </a:lnTo>
                <a:lnTo>
                  <a:pt x="0" y="21600"/>
                </a:lnTo>
                <a:close/>
              </a:path>
              <a:path fill="lightenLess" w="74440" h="21600">
                <a:moveTo>
                  <a:pt x="0" y="0"/>
                </a:moveTo>
                <a:lnTo>
                  <a:pt x="74440" y="0"/>
                </a:lnTo>
                <a:lnTo>
                  <a:pt x="73040" y="1400"/>
                </a:lnTo>
                <a:lnTo>
                  <a:pt x="1400" y="1400"/>
                </a:lnTo>
                <a:close/>
              </a:path>
              <a:path fill="darken" w="74440" h="21600">
                <a:moveTo>
                  <a:pt x="74440" y="0"/>
                </a:moveTo>
                <a:lnTo>
                  <a:pt x="74440" y="21600"/>
                </a:lnTo>
                <a:lnTo>
                  <a:pt x="73040" y="20200"/>
                </a:lnTo>
                <a:lnTo>
                  <a:pt x="73040" y="1400"/>
                </a:lnTo>
                <a:close/>
              </a:path>
              <a:path fill="darkenLess" w="74440" h="21600">
                <a:moveTo>
                  <a:pt x="744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040" y="20200"/>
                </a:lnTo>
                <a:close/>
              </a:path>
              <a:path fill="lighten" w="744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eaeaea"/>
                </a:solidFill>
                <a:latin typeface="Comic Sans MS"/>
              </a:rPr>
              <a:t>Organizing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5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6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7" action="ppaction://hlinksldjump"/>
              </a:rPr>
              <a:t>4</a:t>
            </a: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8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9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0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2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3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4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5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6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7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18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1" name="">
            <a:hlinkClick r:id="rId19" action="ppaction://hlinksldjump"/>
          </p:cNvPr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0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1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2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3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4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5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6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7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52578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eaeaea"/>
                </a:solidFill>
                <a:uFillTx/>
                <a:latin typeface="Times New Roman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8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29" action="ppaction://hlinksldjump"/>
              </a:rPr>
              <a:t>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0" action="ppaction://hlinksldjump"/>
              </a:rPr>
              <a:t>2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1" action="ppaction://hlinksldjump"/>
              </a:rPr>
              <a:t>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2" action="ppaction://hlinksldjump"/>
              </a:rPr>
              <a:t>4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eec85e"/>
                </a:solidFill>
                <a:uFillTx/>
                <a:latin typeface="Times New Roman"/>
                <a:hlinkClick r:id="rId33" action="ppaction://hlinksldjump"/>
              </a:rPr>
              <a:t>5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Compare and contrast x and y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Sketch a graphic organizer that would organize the information in this section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do you know that helps you understand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1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</a:t>
            </a:r>
            <a:r>
              <a:rPr b="0" i="1" lang="en-US" sz="5000" spc="-1" strike="noStrike">
                <a:solidFill>
                  <a:srgbClr val="eaeaea"/>
                </a:solidFill>
                <a:latin typeface="Comic Sans MS"/>
              </a:rPr>
              <a:t>best</a:t>
            </a: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 reason to read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 </a:t>
            </a: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did the author do to make this a highly informative selection? Or what could the author have done to make it more informativ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y is the text feature on page x significant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2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pply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y is this information important in your own lif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part of this selection surprises you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would be another good title for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3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Explain the main idea of this selection.  How do you know this is the main idea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is selection mainly about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ich word best describes xxx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Analyz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Outline the important information about xxx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Tell me additional information about xxx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y did the author include photos/images in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your opinion about xxx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does the author </a:t>
            </a:r>
            <a:r>
              <a:rPr b="0" i="1" lang="en-US" sz="5000" spc="-1" strike="noStrike">
                <a:solidFill>
                  <a:srgbClr val="eaeaea"/>
                </a:solidFill>
                <a:latin typeface="Comic Sans MS"/>
              </a:rPr>
              <a:t>most likely</a:t>
            </a: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 mean by _______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5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Generat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Predict what would be true if xxx happened or did not happe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in" orient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Summarize the information in this selection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out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most important information in this selectio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in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nformation did you learn that you can apply to your lif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meaning of “xxx”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2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9884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If you were the author of this selection, what would you change and why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strips dir="l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Integrating/Evaluat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5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15600" y="1599840"/>
            <a:ext cx="7986600" cy="44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25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Evaluate the quality of this selection.  What made it a good selection?  What could have made it better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3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Identify the first subheading.  What does the author want you to learn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4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Look at the image on page x.  Why did the author choose this image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Knowing 5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What is the author’s purpose in writing about this topic?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1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eaeaea"/>
              </a:buClr>
              <a:buSzPct val="70000"/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aeaea"/>
                </a:solidFill>
                <a:latin typeface="Comic Sans MS"/>
              </a:rPr>
              <a:t>Sequence the information found in section x.</a:t>
            </a: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cc"/>
                </a:solidFill>
                <a:latin typeface="Comic Sans MS"/>
              </a:rPr>
              <a:t>Organizing 2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066680" y="1447920"/>
            <a:ext cx="56390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buClr>
                <a:srgbClr val="eaeaea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Comic Sans MS"/>
              </a:rPr>
              <a:t>Read the special text feature on page x.  What information does this feature give you?</a:t>
            </a:r>
            <a:endParaRPr b="0" lang="en-US" sz="4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cc"/>
                </a:solidFill>
                <a:latin typeface="Comic Sans MS"/>
              </a:rPr>
              <a:t>Double Jeopardy</a:t>
            </a:r>
            <a:endParaRPr b="0" lang="en-US" sz="5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0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339966"/>
          </a:solidFill>
          <a:ln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Kelli Harrell</dc:creator>
  <dc:description/>
  <dc:language>en-US</dc:language>
  <cp:lastModifiedBy>Randolph County Schools</cp:lastModifiedBy>
  <dcterms:modified xsi:type="dcterms:W3CDTF">2006-06-15T13:35:02Z</dcterms:modified>
  <cp:revision>84</cp:revision>
  <dc:subject/>
  <dc:title>Nonfiction Comprehension Challenge</dc:title>
</cp:coreProperties>
</file>